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02C-3AA6-48D5-AB51-48D363A8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912-2ECB-4AB4-BD18-05638F53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C3A-3A35-476C-80C6-A42888F2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F4E-260A-49A6-92A3-3932E3E7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26EC-C7CB-4A50-9E8C-406973AE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2167-035C-4196-B417-5E269737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1C2F-83D8-4940-9A51-3CF3121A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DF8C-0E7A-41C5-AD48-942AEBFD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B4EE-1D36-40F4-9956-7590329D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63C6-899C-4F0F-B3C8-D4DB1730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54F9-9931-4589-A4FF-2224EDB2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FF9-802B-4295-B2C6-F4FC0CE0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FABA-E497-4DC5-9F9B-8ECAC1B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36A7-B0A1-457B-AB08-FCDED920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B1D6-3C26-42E3-B24D-71D07056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3A80-6C50-46B0-9856-04BC96D8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BF7B-BAFF-45D2-8767-E8F335D7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419-7CDA-4B4A-918E-EC1E7877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A57-380F-4F03-A6FC-32B3B6E3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93C-8E27-4768-805A-8B3D09CB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4FE-0872-485B-B9CD-082FB11A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B0A-8FAF-4C4D-B3AB-28E53DE8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E72-13DF-4D2F-9251-49961148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922-00A6-4CBA-B392-599799F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9F5F-DA34-460F-A960-1537B58E00B4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35A5-941A-40B4-8018-B5D6F016899D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538280"/>
                <a:gridCol w="1538280"/>
                <a:gridCol w="1540080"/>
                <a:gridCol w="1538280"/>
                <a:gridCol w="153828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Owner</cp:lastModifiedBy>
  <dcterms:modified xsi:type="dcterms:W3CDTF">2010-02-18T05:03:53Z</dcterms:modified>
  <cp:revision>3</cp:revision>
  <dc:subject/>
  <dc:title>Twenty Questions</dc:title>
</cp:coreProperties>
</file>